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Times New Roman"/>
            </a:endParaRPr>
          </a:p>
        </p:txBody>
      </p:sp>
      <p:sp>
        <p:nvSpPr>
          <p:cNvPr id="37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D329-AC92-4954-97C0-4B5A03D7976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DA7D-94BB-49DB-B454-583A0DB8B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ormative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progress is measured through multiple methods of formative evaluation intentionally designed to magnify student needs and to shape future lessons. Feedback given (as part of formative assessment) helps learners become aware of gaps between their desired goals and their current knowledge, understanding, or skill. Feedback leads students to the actions necessary to achieve their learning goals. Formative assessment through self-evaluation helps students monitor their own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E682-D369-4558-A1CA-705F654C1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unit—stag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does that look like?  Why does it matter? (sample GRASPS—how does this align with stage one ; then what data will I need when beginning sequence of teaching and learning (stage 3)  how will I use this data?  How will I scaffold formative assessments to provide me with pulse checks and students with opportunities to reflect and refine prior to the summative assessment. </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3D7C-BA9E-4219-AF45-EEC7ED2D8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share out their brainstorming for pre and formative assessment for the English 9Honors GRASPS/Stage One—copy of unit and performance task should be in the packet of module materials provided to teachers.</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F8EA-63FE-44F8-B9B4-EDFEC79ADC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my discip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ing like an assessor in your own content begin by: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stage one for uni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best performance/summative task to assess student </a:t>
            </a:r>
            <a:r>
              <a:rPr b="0" i="1" lang="en-US" sz="1200" spc="-1" strike="noStrike">
                <a:solidFill>
                  <a:srgbClr val="000000"/>
                </a:solidFill>
                <a:latin typeface="Calibri"/>
              </a:rPr>
              <a:t>understanding</a:t>
            </a:r>
            <a:r>
              <a:rPr b="0" lang="en-US" sz="1200" spc="-1" strike="noStrike">
                <a:solidFill>
                  <a:srgbClr val="000000"/>
                </a:solidFill>
                <a:latin typeface="Calibri"/>
              </a:rPr>
              <a:t> and ability to transfer unit knowledge and skill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the data you will need at the beginning of the unit to best differentiate instructional delivery;</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 plan to align formative assessment with  summative pie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42A9-011D-4670-AA19-6C75BC8D8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0"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
        <p:nvSpPr>
          <p:cNvPr id="4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804C-8622-4038-8D8A-0E7C588F9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
        <p:nvSpPr>
          <p:cNvPr id="4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D6BD-AB3D-40DA-AAED-DA065F9EB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quote: “Whether I liked it or not, informative assessment always demonstrated to me that my students' knowledge, understanding, and skill were emerging along different time continuums and at different depths. It became excruciatingly clear that my brilliant teaching was not equally brilliant for everyone in my classes. In other words, informative assessment helped me solidify a need for different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
        <p:nvSpPr>
          <p:cNvPr id="45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F82B-DBC6-443B-88A9-F630FE0AE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to session goals.</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DA1C-1DE2-44CD-BBBA-37C8EBCAC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mparison to UbD stage 1 development….</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4AAE-122A-45B1-9405-7728FE53D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 Before designing a test or task, consider the general types of performances that are implied.  E.G. – for example – regardless of the content, understanding is often revealed through comparing and contrasting or summarizing important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 This is where criteria, rubrics, and examplars will come into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 does the evidence align with our learning goals from stage 1 and are the results sufficiently unambiguous?</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147C-9506-47D1-9686-648B3D555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8221-187F-41A8-9F6C-0C0F1D581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ummative Performance T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t should be logically inferred from our desired results—results that should be evidenced through the summative assessment. Thinking about the assessment as evidence of unit mastery helps teachers design a map that uses preassessment to diagnose and formative assessment to adjust learning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ll designed summative performance task, in addition to traditional evaluation of content knowledge, students demonstrate their understanding of content relevance and their ability to transfer and apply what they have learned.  Strong performance tasks assess content objectives and desired skills outlined in stage one.  </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0335-9AF2-4C0A-8B65-3E3686BAA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re-Assessment</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summative assessment , teachers should choose a preassessment tool  for crafting a learning plan that will  challenge gifted learners to work to their potential.  Students are afforded opportunity to demonstrate prior knowledge, interests, or learning style.  This information helps teachers maximize time by guiding instruction and focusing on student needs. From module: The essential motivation for using preassessments is to increase the likelihood of student success by matching the student’s instructional needs with instructional strategies. Effective preassessments help build  a road map from a student’s current level of achievement to the content and skills needed to meet a specific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9D08-C963-4CBC-97F3-34B4CE8BF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3BB2E-6818-438E-A95E-C1C2945E3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E8B5A-3F84-4952-9684-F5B5BE9DB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9812B-3C38-40AB-BF0D-7E81FB92C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14070-842C-4990-9046-0B7288836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294DA-59A5-436C-910B-95C4FDADD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0C6BB-B25D-4001-B969-CD8B623F2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2313D-C63A-4F38-BE40-F80C96E00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A8479-2185-4448-A5E7-4901FEA42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99321-4EE9-493D-AAE4-BC4269B16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7F22A-B88B-4844-8B6B-9DA76C57D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32855-B0A0-4096-B64E-DCC02B8C1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6744C-4AA6-4562-800A-2A396E4C6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870CA-64B8-4E1D-B6E5-A90BC65E6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7319A-C663-4AB5-9224-B0E4CCDB3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5F8B1-A58A-4678-99EF-24BA1B372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C4283-D82B-481C-ACD1-C860C9F23A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5E486-C0BA-4E25-9AF8-07EDD4442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DCE466-4D84-441B-AE75-F3C148A1EF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1B8073-5DD1-4FBB-888D-CC181D8E6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EBCAE1-8A1D-4BA4-9D2F-18991AB45A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BFB178-15B5-449F-B786-03023E610C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7C0358-26C2-4C99-A40B-B6EEE3734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85721-56C2-4CE7-9B26-A7E9280F1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C2051C-C3E1-491B-A55B-CD8E3FAB26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04AC0-2CDE-4BAE-8DCA-E3D658842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7C701-1DF2-4E2B-8D53-2B118A8F7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65AE4-2478-4F63-AAD3-E40CC15E1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6653B6-78FF-42A9-B3D6-B8A653CC0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68D5D8-F950-4C83-940A-19A80C11B8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B61DD0-1B78-47E8-BD32-7842331D92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CECD68-8478-4DFD-92CE-6F98823D23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37BF5C-175C-48F2-A2CD-259DC69B24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2B28F7-98D1-402F-904D-56C55BF5FF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23AFE-DF5E-49E5-9D37-1FF6F28D9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992792-FA07-429C-9538-02DB5187B9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09937F-2DE4-48CB-A251-70DB5A713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BFBD61-73D7-492F-A504-E9F0F847D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A25BC-073B-4E71-9263-A3054D022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458E0-5138-4C5A-9E25-7B69F05DD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CD898-1120-4BBC-9F42-ED07842B4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9839A1-1A15-4E9F-A954-C93534DD08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952016-B400-4E61-96CF-DDF42EBEF4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4353B3-1E79-4A75-9D04-BF6EAF1613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3523A0-2F05-401D-8DDC-AE472D35CD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C32C7-9106-4DCC-A628-61C817315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696CD5-913A-4516-BE64-B9D1EAE2CC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F69EF-C10E-41F9-B026-DCEA8B78DF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958DEB-A252-482B-AEED-BA526B0AA1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F7837A-096A-4634-AFA1-DB68E7C71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35570F-1AA3-428A-BDE4-90865B0A2C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D96B31-7467-4A69-B77B-6561D2113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789854-E214-44CA-A35B-871B2140FB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25DD27-7318-4BDB-B342-6B0C87521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3F23B7-9F6F-479A-AE24-C9F75DE7E5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9F7326-460D-42BB-BF7C-8AABEE655A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006F2-177C-4FA8-98E9-0129931E4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BB152B-1D6B-47FA-B786-5A0C3AD88E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0DC59B-59DA-4B61-BBFB-0071FC5627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70013-E4E6-41D8-A5A3-21C415A95E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AF75A5-FA09-4E42-947B-43EA5A9ACE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C0F2FE-8E09-4DF3-B93E-C7966EE2EE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540C0B-452E-4AB7-9341-598B6720FE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12EF65-FE22-466D-B3DF-BA39E611FC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29D21-361E-4F81-94A3-A05CE39651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4394F-9274-4F8D-A4B5-708A34FFA8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D3C33F-9916-4C02-A558-A662E6380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ECFA7-AE3A-4AFD-BC7F-F2F54331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554013-875F-4116-A4F4-5A26EE06AB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523C9E-F722-475C-AC12-1C0B779996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3CE766-347F-4E4D-ABED-EA09AB5E54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3B66F7-0430-4321-86F4-10EB60E96C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7F602A-ADBF-4DA6-9B66-617EFDC76E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C6B2FA-C6B7-4224-8583-309E39C52B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FD4E81-54F3-483C-9D3A-0A864075FF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9FF43F-6F9D-4E17-B200-37774076F9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DC7C21-BABA-47D9-A03E-D1751556B4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9A3C19-1C12-40E3-8E02-BAB2F9347D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3B649-2E3F-4A39-AB03-C4F297243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02C08D-31B8-4CE2-9F16-C9A8E46D1C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873179-C0FF-4CCB-A14F-8B59DD2332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1415F9-D3C6-4A5B-9C7B-F2F1AC66CB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39953A-BE8A-40A0-B5D1-E32A2A1F13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6742FC-04A2-4372-9D53-3513ECA5F5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9719FE-E3D3-4917-A30F-A45D9E800A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BCBA92-4657-4A54-B9AE-332EA7B1A7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7DAF78-3D2F-4D80-8723-813F0275C7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DB6E7D-0F17-4382-A307-9CF8987F45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B629A0-3A10-4F8F-B6D2-29DA8DC7DF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FA656-D3D7-407E-8868-BFDC28C84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2A8E30-70CB-4CB8-8E43-08B640A285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B1C8EF-88FE-4495-8C4E-66EAE2C29F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94974D-6A78-4053-9360-A0F06E43C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70B02F-5331-4664-93F8-1ED98A9542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A42D86-0127-4D7C-B288-FF1C013015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24DDCA-5D65-4CD2-B5CD-0B660B2FE8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2D3A4D-9343-4451-A9C6-B7FFB403C6C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CE4F-FD83-4F3E-8ECF-887C89D22BFB}"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F7D7-BF92-468C-9D21-F4210AAA4A4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781E-334F-499F-899D-9AB3A8726253}"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D774-D88C-404D-98A9-11DB6536CE9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7699-C0F2-4EE6-9B73-F0B08DD73995}"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E7B3-1A1B-4BE5-A47C-129C5FE6267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2FD1-D81F-4C1C-A48B-7EC6BE2823D7}"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7418-E37D-488A-BF71-D0384B9E965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DCD5-F671-4796-B8FE-7D04426547AC}"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2202-9D34-4202-9E17-446A0C437C8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CEFA-4FA8-416A-A426-086260858C7D}"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995B-6299-4414-8125-F63EA126956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4C5F-3BF4-46D2-911F-B613282FECFF}"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87CD-35B6-4F5D-9086-E733779E345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65240" y="1036800"/>
            <a:ext cx="1170000" cy="1170000"/>
            <a:chOff x="165240" y="1036800"/>
            <a:chExt cx="1170000" cy="1170000"/>
          </a:xfrm>
        </p:grpSpPr>
        <p:pic>
          <p:nvPicPr>
            <p:cNvPr id="321" name="Donut 10"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581C-0364-464A-82AB-5682041ED2C0}"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Times New Roman"/>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4F37-96F6-4208-8EC7-91D5E77C1A0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320" y="1676160"/>
            <a:ext cx="7712280" cy="147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alanced Assessment:</a:t>
            </a:r>
            <a:br>
              <a:rPr sz="4300"/>
            </a:br>
            <a:r>
              <a:rPr b="0" lang="en-US" sz="4300" spc="-1" strike="noStrike">
                <a:solidFill>
                  <a:srgbClr val="572314"/>
                </a:solidFill>
                <a:latin typeface="Gill Sans MT"/>
              </a:rPr>
              <a:t>A Gifted Learner Support System</a:t>
            </a:r>
            <a:endParaRPr b="0" lang="en-US" sz="4300" spc="-1" strike="noStrike">
              <a:solidFill>
                <a:srgbClr val="572314"/>
              </a:solidFill>
              <a:latin typeface="Gill Sans MT"/>
            </a:endParaRPr>
          </a:p>
        </p:txBody>
      </p:sp>
      <p:sp>
        <p:nvSpPr>
          <p:cNvPr id="374" name="PlaceHolder 2"/>
          <p:cNvSpPr>
            <a:spLocks noGrp="1"/>
          </p:cNvSpPr>
          <p:nvPr>
            <p:ph type="subTitle"/>
          </p:nvPr>
        </p:nvSpPr>
        <p:spPr>
          <a:xfrm>
            <a:off x="1066680" y="5105520"/>
            <a:ext cx="7407360" cy="175248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Office of Gifted Education</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High School Teacher Training Modul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ere’s What!</a:t>
            </a:r>
            <a:endParaRPr b="0" lang="en-US" sz="4300" spc="-1" strike="noStrike">
              <a:solidFill>
                <a:srgbClr val="572314"/>
              </a:solidFill>
              <a:latin typeface="Gill Sans MT"/>
            </a:endParaRPr>
          </a:p>
        </p:txBody>
      </p:sp>
      <p:sp>
        <p:nvSpPr>
          <p:cNvPr id="410" name=""/>
          <p:cNvSpPr txBox="1"/>
          <p:nvPr/>
        </p:nvSpPr>
        <p:spPr>
          <a:xfrm>
            <a:off x="1434960" y="1447560"/>
            <a:ext cx="7499520" cy="4800600"/>
          </a:xfrm>
          <a:prstGeom prst="rect">
            <a:avLst/>
          </a:prstGeom>
          <a:noFill/>
          <a:ln w="0">
            <a:noFill/>
          </a:ln>
        </p:spPr>
        <p:txBody>
          <a:bodyPr anchor="t">
            <a:normAutofit fontScale="89000"/>
          </a:bodyPr>
          <a:p>
            <a:pPr lvl="1" marL="569160" indent="-2102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 does formative assessment inform instruction and provide students reflective opportunities about their own learning?</a:t>
            </a:r>
            <a:endParaRPr b="0" lang="en-US" sz="3200" spc="-1" strike="noStrike">
              <a:solidFill>
                <a:srgbClr val="000000"/>
              </a:solidFill>
              <a:latin typeface="Gill Sans MT"/>
            </a:endParaRPr>
          </a:p>
          <a:p>
            <a:pPr marL="324720" indent="-2512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mportant considerations:</a:t>
            </a:r>
            <a:endParaRPr b="0" lang="en-US" sz="32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ariety</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eedback </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lignment </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lf-evaluation</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69C9-332D-43CF-BF25-871D92BD558E}"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12" name="Footer Placeholder 4"/>
          <p:cNvSpPr/>
          <p:nvPr/>
        </p:nvSpPr>
        <p:spPr>
          <a:xfrm>
            <a:off x="35812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o What?</a:t>
            </a:r>
            <a:endParaRPr b="0" lang="en-US" sz="4300" spc="-1" strike="noStrike">
              <a:solidFill>
                <a:srgbClr val="572314"/>
              </a:solidFill>
              <a:latin typeface="Gill Sans MT"/>
            </a:endParaRPr>
          </a:p>
        </p:txBody>
      </p:sp>
      <p:sp>
        <p:nvSpPr>
          <p:cNvPr id="414" name=""/>
          <p:cNvSpPr txBox="1"/>
          <p:nvPr/>
        </p:nvSpPr>
        <p:spPr>
          <a:xfrm>
            <a:off x="1294920" y="1218960"/>
            <a:ext cx="7497720" cy="5638680"/>
          </a:xfrm>
          <a:prstGeom prst="rect">
            <a:avLst/>
          </a:prstGeom>
          <a:noFill/>
          <a:ln w="0">
            <a:noFill/>
          </a:ln>
        </p:spPr>
        <p:txBody>
          <a:bodyPr anchor="t">
            <a:normAutofit fontScale="92000"/>
          </a:bodyPr>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t’s consider Stage One like an assessor.</a:t>
            </a:r>
            <a:endParaRPr b="0" lang="en-US" sz="3200" spc="-1" strike="noStrike">
              <a:solidFill>
                <a:srgbClr val="000000"/>
              </a:solidFill>
              <a:latin typeface="Gill Sans MT"/>
            </a:endParaRPr>
          </a:p>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preassessment data will you need for this unit?</a:t>
            </a:r>
            <a:endParaRPr b="0" lang="en-US" sz="32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will you use the data?</a:t>
            </a:r>
            <a:endParaRPr b="0" lang="en-US" sz="20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formative assessments will provide you and the students with the feedback needed prior to summative performance?</a:t>
            </a:r>
            <a:endParaRPr b="0" lang="en-US" sz="32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will your formative assessments complement the summative performance task to come?</a:t>
            </a:r>
            <a:endParaRPr b="0" lang="en-US" sz="20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can the formative assessment provide both descriptive feedback and the opportunity for student reflection?</a:t>
            </a:r>
            <a:endParaRPr b="0" lang="en-US" sz="20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1F96-EDD6-4C87-9678-20953BCA250E}"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16" name="Footer Placeholder 4"/>
          <p:cNvSpPr/>
          <p:nvPr/>
        </p:nvSpPr>
        <p:spPr>
          <a:xfrm>
            <a:off x="342900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Diagram 6" descr=""/>
          <p:cNvPicPr/>
          <p:nvPr/>
        </p:nvPicPr>
        <p:blipFill>
          <a:blip r:embed="rId1"/>
          <a:stretch/>
        </p:blipFill>
        <p:spPr>
          <a:xfrm>
            <a:off x="-542880" y="835200"/>
            <a:ext cx="10534680" cy="6029280"/>
          </a:xfrm>
          <a:prstGeom prst="rect">
            <a:avLst/>
          </a:prstGeom>
          <a:ln w="0">
            <a:noFill/>
          </a:ln>
        </p:spPr>
      </p:pic>
      <p:sp>
        <p:nvSpPr>
          <p:cNvPr id="418" name="TextBox 7"/>
          <p:cNvSpPr/>
          <p:nvPr/>
        </p:nvSpPr>
        <p:spPr>
          <a:xfrm>
            <a:off x="0" y="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utting the Pieces Together</a:t>
            </a:r>
            <a:endParaRPr b="0" lang="en-US" sz="2800" spc="-1" strike="noStrike">
              <a:solidFill>
                <a:srgbClr val="000000"/>
              </a:solidFill>
              <a:latin typeface="Arial"/>
            </a:endParaRPr>
          </a:p>
        </p:txBody>
      </p:sp>
      <p:sp>
        <p:nvSpPr>
          <p:cNvPr id="41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F670-560E-458B-A5DE-2802C4278EB7}"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20" name="Footer Placeholder 4"/>
          <p:cNvSpPr/>
          <p:nvPr/>
        </p:nvSpPr>
        <p:spPr>
          <a:xfrm>
            <a:off x="320040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w What? </a:t>
            </a:r>
            <a:endParaRPr b="0" lang="en-US" sz="4300" spc="-1" strike="noStrike">
              <a:solidFill>
                <a:srgbClr val="572314"/>
              </a:solidFill>
              <a:latin typeface="Gill Sans MT"/>
            </a:endParaRPr>
          </a:p>
        </p:txBody>
      </p:sp>
      <p:sp>
        <p:nvSpPr>
          <p:cNvPr id="422" name=""/>
          <p:cNvSpPr txBox="1"/>
          <p:nvPr/>
        </p:nvSpPr>
        <p:spPr>
          <a:xfrm>
            <a:off x="1066320" y="2057040"/>
            <a:ext cx="80773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ntent Exploration:  </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nit design and reflection</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eview stage one</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nsider your summative performance piece</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Outline the data you will need at the beginning of the unit.</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What formative assessment tools can provide opportunities for assessor feedback and student reflection?</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2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BBF4-AC60-4F71-9AFE-E5209E78A839}"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24" name="Footer Placeholder 4"/>
          <p:cNvSpPr/>
          <p:nvPr/>
        </p:nvSpPr>
        <p:spPr>
          <a:xfrm>
            <a:off x="32767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320" y="27432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Return to Balanced Assessment Inventory</a:t>
            </a:r>
            <a:endParaRPr b="0" lang="en-US" sz="32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ost-Session Reflecti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flect on perspectiv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template the big ideas of modul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lf-Asses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t a SMART goal</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21CC-08D6-45C0-AC57-738B57002CA1}"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28" name="Footer Placeholder 4"/>
          <p:cNvSpPr/>
          <p:nvPr/>
        </p:nvSpPr>
        <p:spPr>
          <a:xfrm>
            <a:off x="32767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l Thought</a:t>
            </a:r>
            <a:endParaRPr b="0" lang="en-US" sz="4300" spc="-1" strike="noStrike">
              <a:solidFill>
                <a:srgbClr val="572314"/>
              </a:solidFill>
              <a:latin typeface="Gill Sans MT"/>
            </a:endParaRPr>
          </a:p>
        </p:txBody>
      </p:sp>
      <p:sp>
        <p:nvSpPr>
          <p:cNvPr id="4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Our success in teaching for understanding depends on our design skills—our ability to design assessments that naturally raise questions and new ideas instead of telling students what we know, and assuming that they understand.”</a:t>
            </a:r>
            <a:r>
              <a:rPr b="0" lang="en-US" sz="2800" spc="-1" strike="noStrike">
                <a:solidFill>
                  <a:srgbClr val="000000"/>
                </a:solidFill>
                <a:latin typeface="Gill Sans MT"/>
              </a:rPr>
              <a:t>	</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Jay McTighe and  Grant Wiggins</a:t>
            </a:r>
            <a:endParaRPr b="0" lang="en-US" sz="2800" spc="-1" strike="noStrike">
              <a:solidFill>
                <a:srgbClr val="000000"/>
              </a:solidFill>
              <a:latin typeface="Gill Sans MT"/>
            </a:endParaRPr>
          </a:p>
        </p:txBody>
      </p:sp>
      <p:sp>
        <p:nvSpPr>
          <p:cNvPr id="43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Arial"/>
            </a:endParaRPr>
          </a:p>
        </p:txBody>
      </p:sp>
      <p:sp>
        <p:nvSpPr>
          <p:cNvPr id="43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DE5E-4F8D-45AE-93BE-F55D787A8097}"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ork Consulted</a:t>
            </a:r>
            <a:endParaRPr b="0" lang="en-US" sz="4300" spc="-1" strike="noStrike">
              <a:solidFill>
                <a:srgbClr val="572314"/>
              </a:solidFill>
              <a:latin typeface="Gill Sans MT"/>
            </a:endParaRPr>
          </a:p>
        </p:txBody>
      </p:sp>
      <p:sp>
        <p:nvSpPr>
          <p:cNvPr id="4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cTighe, J.  And Wiggins, G.(2011). </a:t>
            </a:r>
            <a:r>
              <a:rPr b="0" lang="en-US" sz="2600" spc="-1" strike="noStrike" u="sng">
                <a:solidFill>
                  <a:srgbClr val="000000"/>
                </a:solidFill>
                <a:uFillTx/>
                <a:latin typeface="Gill Sans MT"/>
              </a:rPr>
              <a:t>The Understanding by Design Guide to Creating High Quality Units</a:t>
            </a:r>
            <a:r>
              <a:rPr b="1" lang="en-US" sz="2600" spc="-1" strike="noStrike">
                <a:solidFill>
                  <a:srgbClr val="000000"/>
                </a:solidFill>
                <a:latin typeface="Gill Sans MT"/>
              </a:rPr>
              <a:t>. </a:t>
            </a:r>
            <a:r>
              <a:rPr b="0" lang="en-US" sz="2600" spc="-1" strike="noStrike">
                <a:solidFill>
                  <a:srgbClr val="000000"/>
                </a:solidFill>
                <a:latin typeface="Gill Sans MT"/>
              </a:rPr>
              <a:t>Association for Supervision and Curriculum Development (ASCD) </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mlinson, C. (2008). “Learning to Love Assessment.” </a:t>
            </a:r>
            <a:r>
              <a:rPr b="0" lang="en-US" sz="2600" spc="-1" strike="noStrike" u="sng">
                <a:solidFill>
                  <a:srgbClr val="000000"/>
                </a:solidFill>
                <a:uFillTx/>
                <a:latin typeface="Gill Sans MT"/>
              </a:rPr>
              <a:t>Informative Assessment</a:t>
            </a:r>
            <a:r>
              <a:rPr b="0" lang="en-US" sz="2600" spc="-1" strike="noStrike">
                <a:solidFill>
                  <a:srgbClr val="000000"/>
                </a:solidFill>
                <a:latin typeface="Gill Sans MT"/>
              </a:rPr>
              <a:t>. Web.</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Arial"/>
            </a:endParaRPr>
          </a:p>
        </p:txBody>
      </p:sp>
      <p:sp>
        <p:nvSpPr>
          <p:cNvPr id="43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0AD4-9027-4828-B7E9-E2F042AFD7E1}"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520" y="304920"/>
            <a:ext cx="8153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2314"/>
                </a:solidFill>
                <a:latin typeface="Georgia"/>
              </a:rPr>
              <a:t>	</a:t>
            </a:r>
            <a:r>
              <a:rPr b="0" lang="en-US" sz="1800" spc="-1" strike="noStrike">
                <a:solidFill>
                  <a:srgbClr val="572314"/>
                </a:solidFill>
                <a:latin typeface="Georgia"/>
              </a:rPr>
              <a:t>	</a:t>
            </a:r>
            <a:r>
              <a:rPr b="0" lang="en-US" sz="1800" spc="-1" strike="noStrike">
                <a:solidFill>
                  <a:srgbClr val="572314"/>
                </a:solidFill>
                <a:latin typeface="Georgia"/>
              </a:rPr>
              <a:t>	</a:t>
            </a:r>
            <a:r>
              <a:rPr b="0" lang="en-US" sz="1800" spc="-1" strike="noStrike">
                <a:solidFill>
                  <a:srgbClr val="572314"/>
                </a:solidFill>
                <a:latin typeface="Georgia"/>
              </a:rPr>
              <a:t>   </a:t>
            </a:r>
            <a:r>
              <a:rPr b="0" lang="en-US" sz="1800" spc="-1" strike="noStrike">
                <a:solidFill>
                  <a:srgbClr val="572314"/>
                </a:solidFill>
                <a:latin typeface="Georgia"/>
              </a:rPr>
              <a:t>Teacher Workshop </a:t>
            </a:r>
            <a:r>
              <a:rPr b="0" lang="en-US" sz="1800" spc="-1" strike="noStrike">
                <a:solidFill>
                  <a:srgbClr val="572314"/>
                </a:solidFill>
                <a:latin typeface="Georgia"/>
              </a:rPr>
              <a:t>	</a:t>
            </a:r>
            <a:r>
              <a:rPr b="0" lang="en-US" sz="1800" spc="-1" strike="noStrike">
                <a:solidFill>
                  <a:srgbClr val="572314"/>
                </a:solidFill>
                <a:latin typeface="Georgia"/>
              </a:rPr>
              <a:t>Date: ___________</a:t>
            </a:r>
            <a:br>
              <a:rPr sz="1800"/>
            </a:br>
            <a:r>
              <a:rPr b="0" lang="en-US" sz="1800" spc="-1" strike="noStrike">
                <a:solidFill>
                  <a:srgbClr val="572314"/>
                </a:solidFill>
                <a:latin typeface="Gill Sans MT"/>
              </a:rPr>
              <a:t>Balanced Assessment:</a:t>
            </a:r>
            <a:br>
              <a:rPr sz="1800"/>
            </a:br>
            <a:r>
              <a:rPr b="0" lang="en-US" sz="1800" spc="-1" strike="noStrike">
                <a:solidFill>
                  <a:srgbClr val="572314"/>
                </a:solidFill>
                <a:latin typeface="Gill Sans MT"/>
              </a:rPr>
              <a:t>A Gifted Learner Support System</a:t>
            </a:r>
            <a:br>
              <a:rPr sz="1800"/>
            </a:br>
            <a:r>
              <a:rPr b="0" lang="en-US" sz="1800" spc="-1" strike="noStrike">
                <a:solidFill>
                  <a:srgbClr val="572314"/>
                </a:solidFill>
                <a:latin typeface="Georgia"/>
              </a:rPr>
              <a:t>Name:  _________________School: __________________</a:t>
            </a:r>
            <a:r>
              <a:rPr b="0" lang="en-US" sz="2200" spc="-1" strike="noStrike">
                <a:solidFill>
                  <a:srgbClr val="572314"/>
                </a:solidFill>
                <a:latin typeface="Gill Sans MT"/>
              </a:rPr>
              <a:t>  </a:t>
            </a:r>
            <a:endParaRPr b="0" lang="en-US" sz="2200" spc="-1" strike="noStrike">
              <a:solidFill>
                <a:srgbClr val="572314"/>
              </a:solidFill>
              <a:latin typeface="Gill Sans MT"/>
            </a:endParaRPr>
          </a:p>
        </p:txBody>
      </p:sp>
      <p:graphicFrame>
        <p:nvGraphicFramePr>
          <p:cNvPr id="438" name=""/>
          <p:cNvGraphicFramePr/>
          <p:nvPr/>
        </p:nvGraphicFramePr>
        <p:xfrm>
          <a:off x="304920" y="1676520"/>
          <a:ext cx="8534160" cy="4998960"/>
        </p:xfrm>
        <a:graphic>
          <a:graphicData uri="http://schemas.openxmlformats.org/drawingml/2006/table">
            <a:tbl>
              <a:tblPr/>
              <a:tblGrid>
                <a:gridCol w="3997080"/>
                <a:gridCol w="4537080"/>
              </a:tblGrid>
              <a:tr h="570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 Suggestions, Ideas, &amp; Ques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4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 what ways did your participation  in today’s workshop enhance your understanding of balanced assess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20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 what ways might this information help to inform your work with regard to curriculum, instruction, and assessmen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hat questions do you have as a result of today’s worksho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Calibri"/>
                        </a:rPr>
                        <a:t>This professional development was effective in helping me understand the academic needs of gifted learner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Strongly Disagree       Disagree           Agree       Strongly Agre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0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Calibri"/>
                        </a:rPr>
                        <a:t>This professional development was effective in helping me understand the social/emotional needs of gifted learner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9" name="TextBox 7"/>
          <p:cNvSpPr/>
          <p:nvPr/>
        </p:nvSpPr>
        <p:spPr>
          <a:xfrm>
            <a:off x="4724280" y="5105520"/>
            <a:ext cx="365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1</a:t>
            </a:r>
            <a:r>
              <a:rPr b="0" lang="en-US" sz="1600" spc="-1" strike="noStrike">
                <a:solidFill>
                  <a:srgbClr val="000000"/>
                </a:solidFill>
                <a:latin typeface="Gill Sans MT"/>
              </a:rPr>
              <a:t>	</a:t>
            </a:r>
            <a:r>
              <a:rPr b="0" lang="en-US" sz="1600" spc="-1" strike="noStrike">
                <a:solidFill>
                  <a:srgbClr val="000000"/>
                </a:solidFill>
                <a:latin typeface="Gill Sans MT"/>
              </a:rPr>
              <a:t>           2</a:t>
            </a:r>
            <a:r>
              <a:rPr b="0" lang="en-US" sz="1600" spc="-1" strike="noStrike">
                <a:solidFill>
                  <a:srgbClr val="000000"/>
                </a:solidFill>
                <a:latin typeface="Gill Sans MT"/>
              </a:rPr>
              <a:t>	</a:t>
            </a:r>
            <a:r>
              <a:rPr b="0" lang="en-US" sz="1600" spc="-1" strike="noStrike">
                <a:solidFill>
                  <a:srgbClr val="000000"/>
                </a:solidFill>
                <a:latin typeface="Gill Sans MT"/>
              </a:rPr>
              <a:t>         3</a:t>
            </a:r>
            <a:r>
              <a:rPr b="0" lang="en-US" sz="1600" spc="-1" strike="noStrike">
                <a:solidFill>
                  <a:srgbClr val="000000"/>
                </a:solidFill>
                <a:latin typeface="Gill Sans MT"/>
              </a:rPr>
              <a:t>	</a:t>
            </a:r>
            <a:r>
              <a:rPr b="0" lang="en-US" sz="1600" spc="-1" strike="noStrike">
                <a:solidFill>
                  <a:srgbClr val="000000"/>
                </a:solidFill>
                <a:latin typeface="Gill Sans MT"/>
              </a:rPr>
              <a:t>       4                </a:t>
            </a:r>
            <a:endParaRPr b="0" lang="en-US" sz="1600" spc="-1" strike="noStrike">
              <a:solidFill>
                <a:srgbClr val="000000"/>
              </a:solidFill>
              <a:latin typeface="Arial"/>
            </a:endParaRPr>
          </a:p>
        </p:txBody>
      </p:sp>
      <p:sp>
        <p:nvSpPr>
          <p:cNvPr id="440" name="TextBox 8"/>
          <p:cNvSpPr/>
          <p:nvPr/>
        </p:nvSpPr>
        <p:spPr>
          <a:xfrm>
            <a:off x="4724280" y="5791320"/>
            <a:ext cx="365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1</a:t>
            </a:r>
            <a:r>
              <a:rPr b="0" lang="en-US" sz="1600" spc="-1" strike="noStrike">
                <a:solidFill>
                  <a:srgbClr val="000000"/>
                </a:solidFill>
                <a:latin typeface="Gill Sans MT"/>
              </a:rPr>
              <a:t>	</a:t>
            </a:r>
            <a:r>
              <a:rPr b="0" lang="en-US" sz="1600" spc="-1" strike="noStrike">
                <a:solidFill>
                  <a:srgbClr val="000000"/>
                </a:solidFill>
                <a:latin typeface="Gill Sans MT"/>
              </a:rPr>
              <a:t>           2</a:t>
            </a:r>
            <a:r>
              <a:rPr b="0" lang="en-US" sz="1600" spc="-1" strike="noStrike">
                <a:solidFill>
                  <a:srgbClr val="000000"/>
                </a:solidFill>
                <a:latin typeface="Gill Sans MT"/>
              </a:rPr>
              <a:t>	</a:t>
            </a:r>
            <a:r>
              <a:rPr b="0" lang="en-US" sz="1600" spc="-1" strike="noStrike">
                <a:solidFill>
                  <a:srgbClr val="000000"/>
                </a:solidFill>
                <a:latin typeface="Gill Sans MT"/>
              </a:rPr>
              <a:t>         3</a:t>
            </a:r>
            <a:r>
              <a:rPr b="0" lang="en-US" sz="1600" spc="-1" strike="noStrike">
                <a:solidFill>
                  <a:srgbClr val="000000"/>
                </a:solidFill>
                <a:latin typeface="Gill Sans MT"/>
              </a:rPr>
              <a:t>	</a:t>
            </a:r>
            <a:r>
              <a:rPr b="0" lang="en-US" sz="1600" spc="-1" strike="noStrike">
                <a:solidFill>
                  <a:srgbClr val="000000"/>
                </a:solidFill>
                <a:latin typeface="Gill Sans MT"/>
              </a:rPr>
              <a:t>       4                </a:t>
            </a:r>
            <a:endParaRPr b="0" lang="en-US" sz="1600" spc="-1" strike="noStrike">
              <a:solidFill>
                <a:srgbClr val="000000"/>
              </a:solidFill>
              <a:latin typeface="Arial"/>
            </a:endParaRPr>
          </a:p>
        </p:txBody>
      </p:sp>
      <p:sp>
        <p:nvSpPr>
          <p:cNvPr id="4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EC44-E62F-43CF-82EF-89930E95DEE0}"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44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 thought to consider-- </a:t>
            </a:r>
            <a:endParaRPr b="0" lang="en-US" sz="43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Whether I liked it or not, informative assessment always demonstrated to me that my students' knowledge, understanding, and skill were emerging along different time continuums and at different depths. It became excruciatingly clear that my brilliant teaching was not equally brilliant for everyone in my classes. In other words, informative assessment helped me solidify a need for differentiation. “ (Tomlinson,  2007)</a:t>
            </a:r>
            <a:endParaRPr b="0" lang="en-US" sz="30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377"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 2011</a:t>
            </a:r>
            <a:endParaRPr b="0" lang="en-US" sz="1200" spc="-1" strike="noStrike">
              <a:solidFill>
                <a:srgbClr val="000000"/>
              </a:solidFill>
              <a:latin typeface="Arial"/>
            </a:endParaRPr>
          </a:p>
        </p:txBody>
      </p:sp>
      <p:sp>
        <p:nvSpPr>
          <p:cNvPr id="37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C43C-D85F-44B8-BB50-94673FACCF42}"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ssion Goals</a:t>
            </a:r>
            <a:endParaRPr b="0" lang="en-US" sz="32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explore the importance of creating a balanced assessment system to enhance and support gifted learner outcomes.</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identify the pieces of a balanced assessment system within a unit of study.</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consider the use of data in determining best practices for</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differentiated instruction.</a:t>
            </a:r>
            <a:endParaRPr b="0" lang="en-US" sz="3200" spc="-1" strike="noStrike">
              <a:solidFill>
                <a:srgbClr val="000000"/>
              </a:solidFill>
              <a:latin typeface="Gill Sans MT"/>
            </a:endParaRPr>
          </a:p>
        </p:txBody>
      </p:sp>
      <p:pic>
        <p:nvPicPr>
          <p:cNvPr id="381" name="Picture 2" descr="C:\Program Files\Microsoft Office\MEDIA\CAGCAT10\j0195812.wmf"/>
          <p:cNvPicPr/>
          <p:nvPr/>
        </p:nvPicPr>
        <p:blipFill>
          <a:blip r:embed="rId1"/>
          <a:stretch/>
        </p:blipFill>
        <p:spPr>
          <a:xfrm>
            <a:off x="6553080" y="5033880"/>
            <a:ext cx="1773360" cy="1824120"/>
          </a:xfrm>
          <a:prstGeom prst="rect">
            <a:avLst/>
          </a:prstGeom>
          <a:ln w="0">
            <a:noFill/>
          </a:ln>
        </p:spPr>
      </p:pic>
      <p:sp>
        <p:nvSpPr>
          <p:cNvPr id="38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C3FF-9638-4681-BCCF-B51D05DF6934}"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383" name="Footer Placeholder 5"/>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668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UDs – Know , Understand, and Do</a:t>
            </a:r>
            <a:endParaRPr b="0" lang="en-US" sz="3200" spc="-1" strike="noStrike">
              <a:solidFill>
                <a:srgbClr val="572314"/>
              </a:solidFill>
              <a:latin typeface="Gill Sans MT"/>
            </a:endParaRPr>
          </a:p>
        </p:txBody>
      </p:sp>
      <p:sp>
        <p:nvSpPr>
          <p:cNvPr id="385" name=""/>
          <p:cNvSpPr txBox="1"/>
          <p:nvPr/>
        </p:nvSpPr>
        <p:spPr>
          <a:xfrm>
            <a:off x="990720" y="1066320"/>
            <a:ext cx="8153280" cy="6324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Enduring Understanding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balanced assessment system leads to high-quality teaching and deeper student understanding.</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alanced assessment insures that instruction meets the intellectual, social, and emotional needs of gifted learners.</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ssential Questions:</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can pre, formative, and summative assessment be used to shape the learning opportunities presented to students and promote rigor?</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o what extent  does  a teacher use formative assessment  as a measure of student understanding and to plan or modify learning opportunities presented to students?</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will I know the degree to which my students have gained understanding of unit goals and objectives?</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0AC3-E9CC-4E66-960C-985377E283D6}"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387" name="Footer Placeholder 4"/>
          <p:cNvSpPr/>
          <p:nvPr/>
        </p:nvSpPr>
        <p:spPr>
          <a:xfrm>
            <a:off x="32767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UD – Know , Understand, and Do</a:t>
            </a:r>
            <a:endParaRPr b="0" lang="en-US" sz="3200" spc="-1" strike="noStrike">
              <a:solidFill>
                <a:srgbClr val="572314"/>
              </a:solidFill>
              <a:latin typeface="Gill Sans MT"/>
            </a:endParaRPr>
          </a:p>
        </p:txBody>
      </p:sp>
      <p:sp>
        <p:nvSpPr>
          <p:cNvPr id="389" name=""/>
          <p:cNvSpPr txBox="1"/>
          <p:nvPr/>
        </p:nvSpPr>
        <p:spPr>
          <a:xfrm>
            <a:off x="1434960" y="1447560"/>
            <a:ext cx="7499520" cy="4800600"/>
          </a:xfrm>
          <a:prstGeom prst="rect">
            <a:avLst/>
          </a:prstGeom>
          <a:noFill/>
          <a:ln w="0">
            <a:noFill/>
          </a:ln>
        </p:spPr>
        <p:txBody>
          <a:bodyPr anchor="t">
            <a:normAutofit fontScale="98000"/>
          </a:bodyPr>
          <a:p>
            <a:pPr marL="357480" indent="-250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Know:</a:t>
            </a:r>
            <a:endParaRPr b="0" lang="en-US" sz="2600" spc="-1" strike="noStrike">
              <a:solidFill>
                <a:srgbClr val="000000"/>
              </a:solidFill>
              <a:latin typeface="Gill Sans MT"/>
            </a:endParaRPr>
          </a:p>
          <a:p>
            <a:pPr marL="357480" indent="-2502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3 types of assessment and the value of their use;</a:t>
            </a:r>
            <a:endParaRPr b="0" lang="en-US" sz="2600" spc="-1" strike="noStrike">
              <a:solidFill>
                <a:srgbClr val="000000"/>
              </a:solidFill>
              <a:latin typeface="Gill Sans MT"/>
            </a:endParaRPr>
          </a:p>
          <a:p>
            <a:pPr marL="357480" indent="-2502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assessment can be used to gauge learning style, prior knowledge, and interest;</a:t>
            </a:r>
            <a:endParaRPr b="0" lang="en-US" sz="2600" spc="-1" strike="noStrike">
              <a:solidFill>
                <a:srgbClr val="000000"/>
              </a:solidFill>
              <a:latin typeface="Gill Sans MT"/>
            </a:endParaRPr>
          </a:p>
          <a:p>
            <a:pPr marL="357480" indent="-2502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importance of using data from a balanced assessment to monitor student understanding and to refine their stage 3 sequence of learning. </a:t>
            </a:r>
            <a:endParaRPr b="0" lang="en-US" sz="2600" spc="-1" strike="noStrike">
              <a:solidFill>
                <a:srgbClr val="000000"/>
              </a:solidFill>
              <a:latin typeface="Gill Sans MT"/>
            </a:endParaRPr>
          </a:p>
          <a:p>
            <a:pPr marL="357480" indent="-250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57480" indent="-250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Do:</a:t>
            </a:r>
            <a:endParaRPr b="0" lang="en-US" sz="2600" spc="-1" strike="noStrike">
              <a:solidFill>
                <a:srgbClr val="000000"/>
              </a:solidFill>
              <a:latin typeface="Gill Sans MT"/>
            </a:endParaRPr>
          </a:p>
          <a:p>
            <a:pPr marL="357480" indent="-2502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nsider ways to refine  a unit to reflect the principles of balanced assessment. </a:t>
            </a:r>
            <a:endParaRPr b="0" lang="en-US" sz="2600" spc="-1" strike="noStrike">
              <a:solidFill>
                <a:srgbClr val="000000"/>
              </a:solidFill>
              <a:latin typeface="Gill Sans MT"/>
            </a:endParaRPr>
          </a:p>
        </p:txBody>
      </p:sp>
      <p:sp>
        <p:nvSpPr>
          <p:cNvPr id="3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B474-9390-45F5-9FDA-6B3A8B687152}" type="slidenum">
              <a:rPr b="0"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391" name="Footer Placeholder 4"/>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1"/>
          <p:cNvSpPr/>
          <p:nvPr/>
        </p:nvSpPr>
        <p:spPr>
          <a:xfrm>
            <a:off x="990720" y="457200"/>
            <a:ext cx="73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Thinking Like an Assessor</a:t>
            </a:r>
            <a:endParaRPr b="0" lang="en-US" sz="3200" spc="-1" strike="noStrike">
              <a:solidFill>
                <a:srgbClr val="000000"/>
              </a:solidFill>
              <a:latin typeface="Arial"/>
            </a:endParaRPr>
          </a:p>
        </p:txBody>
      </p:sp>
      <p:sp>
        <p:nvSpPr>
          <p:cNvPr id="393" name="TextBox 2"/>
          <p:cNvSpPr/>
          <p:nvPr/>
        </p:nvSpPr>
        <p:spPr>
          <a:xfrm>
            <a:off x="914400" y="1219320"/>
            <a:ext cx="7543800" cy="55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yourself these questio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kinds of </a:t>
            </a:r>
            <a:r>
              <a:rPr b="0" lang="en-US" sz="2800" spc="-1" strike="noStrike">
                <a:solidFill>
                  <a:srgbClr val="ff0000"/>
                </a:solidFill>
                <a:latin typeface="Gill Sans MT"/>
              </a:rPr>
              <a:t>evidence</a:t>
            </a:r>
            <a:r>
              <a:rPr b="0" lang="en-US" sz="2800" spc="-1" strike="noStrike">
                <a:solidFill>
                  <a:srgbClr val="000000"/>
                </a:solidFill>
                <a:latin typeface="Gill Sans MT"/>
              </a:rPr>
              <a:t> do we ne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a:t>
            </a:r>
            <a:r>
              <a:rPr b="0" lang="en-US" sz="2800" spc="-1" strike="noStrike">
                <a:solidFill>
                  <a:srgbClr val="ff0000"/>
                </a:solidFill>
                <a:latin typeface="Gill Sans MT"/>
              </a:rPr>
              <a:t>specific characteristics </a:t>
            </a:r>
            <a:r>
              <a:rPr b="0" lang="en-US" sz="2800" spc="-1" strike="noStrike">
                <a:solidFill>
                  <a:srgbClr val="000000"/>
                </a:solidFill>
                <a:latin typeface="Gill Sans MT"/>
              </a:rPr>
              <a:t>in student responses, products, or performances should we examine?</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oes the proposed evidence enable us to </a:t>
            </a:r>
            <a:r>
              <a:rPr b="0" lang="en-US" sz="2800" spc="-1" strike="noStrike">
                <a:solidFill>
                  <a:srgbClr val="ff0000"/>
                </a:solidFill>
                <a:latin typeface="Gill Sans MT"/>
              </a:rPr>
              <a:t>infer</a:t>
            </a:r>
            <a:r>
              <a:rPr b="0" lang="en-US" sz="2800" spc="-1" strike="noStrike">
                <a:solidFill>
                  <a:srgbClr val="000000"/>
                </a:solidFill>
                <a:latin typeface="Gill Sans MT"/>
              </a:rPr>
              <a:t> a student’s knowledge, skill, or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4" name="Picture 2" descr="C:\Documents and Settings\ankruh\Local Settings\Temporary Internet Files\Content.IE5\C70FU3WV\MCj00978910000[1].wmf"/>
          <p:cNvPicPr/>
          <p:nvPr/>
        </p:nvPicPr>
        <p:blipFill>
          <a:blip r:embed="rId1"/>
          <a:stretch/>
        </p:blipFill>
        <p:spPr>
          <a:xfrm>
            <a:off x="7315200" y="380880"/>
            <a:ext cx="1395360" cy="1463760"/>
          </a:xfrm>
          <a:prstGeom prst="rect">
            <a:avLst/>
          </a:prstGeom>
          <a:ln w="0">
            <a:noFill/>
          </a:ln>
        </p:spPr>
      </p:pic>
      <p:sp>
        <p:nvSpPr>
          <p:cNvPr id="39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0688-FDD9-462D-A01D-B90852E31D13}"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396" name="Footer Placeholder 5"/>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Diagram 6" descr=""/>
          <p:cNvPicPr/>
          <p:nvPr/>
        </p:nvPicPr>
        <p:blipFill>
          <a:blip r:embed="rId1"/>
          <a:stretch/>
        </p:blipFill>
        <p:spPr>
          <a:xfrm>
            <a:off x="450720" y="530280"/>
            <a:ext cx="9236160" cy="5962680"/>
          </a:xfrm>
          <a:prstGeom prst="rect">
            <a:avLst/>
          </a:prstGeom>
          <a:ln w="0">
            <a:noFill/>
          </a:ln>
        </p:spPr>
      </p:pic>
      <p:sp>
        <p:nvSpPr>
          <p:cNvPr id="398" name="TextBox 7"/>
          <p:cNvSpPr/>
          <p:nvPr/>
        </p:nvSpPr>
        <p:spPr>
          <a:xfrm>
            <a:off x="0" y="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ieces of a Balanced Assessment System</a:t>
            </a:r>
            <a:endParaRPr b="0" lang="en-US" sz="2800" spc="-1" strike="noStrike">
              <a:solidFill>
                <a:srgbClr val="000000"/>
              </a:solidFill>
              <a:latin typeface="Arial"/>
            </a:endParaRPr>
          </a:p>
        </p:txBody>
      </p:sp>
      <p:sp>
        <p:nvSpPr>
          <p:cNvPr id="3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0E00-3B7C-4C44-8F74-4C43C49EADD8}"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00" name="Footer Placeholder 4"/>
          <p:cNvSpPr/>
          <p:nvPr/>
        </p:nvSpPr>
        <p:spPr>
          <a:xfrm>
            <a:off x="35053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ere’s What!</a:t>
            </a:r>
            <a:endParaRPr b="0" lang="en-US" sz="4300" spc="-1" strike="noStrike">
              <a:solidFill>
                <a:srgbClr val="572314"/>
              </a:solidFill>
              <a:latin typeface="Gill Sans MT"/>
            </a:endParaRPr>
          </a:p>
        </p:txBody>
      </p:sp>
      <p:pic>
        <p:nvPicPr>
          <p:cNvPr id="402" name="Content Placeholder 2" descr=""/>
          <p:cNvPicPr/>
          <p:nvPr/>
        </p:nvPicPr>
        <p:blipFill>
          <a:blip r:embed="rId1"/>
          <a:stretch/>
        </p:blipFill>
        <p:spPr>
          <a:xfrm>
            <a:off x="1298520" y="1139760"/>
            <a:ext cx="7577280" cy="5059440"/>
          </a:xfrm>
          <a:prstGeom prst="rect">
            <a:avLst/>
          </a:prstGeom>
          <a:ln w="0">
            <a:noFill/>
          </a:ln>
        </p:spPr>
      </p:pic>
      <p:sp>
        <p:nvSpPr>
          <p:cNvPr id="40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715B-784E-4D73-ABCD-E64A73B2BEDC}"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04" name="Footer Placeholder 4"/>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ere’s What!</a:t>
            </a:r>
            <a:endParaRPr b="0" lang="en-US" sz="4300" spc="-1" strike="noStrike">
              <a:solidFill>
                <a:srgbClr val="572314"/>
              </a:solidFill>
              <a:latin typeface="Gill Sans MT"/>
            </a:endParaRPr>
          </a:p>
        </p:txBody>
      </p:sp>
      <p:pic>
        <p:nvPicPr>
          <p:cNvPr id="406" name="Content Placeholder 2" descr=""/>
          <p:cNvPicPr/>
          <p:nvPr/>
        </p:nvPicPr>
        <p:blipFill>
          <a:blip r:embed="rId1"/>
          <a:stretch/>
        </p:blipFill>
        <p:spPr>
          <a:xfrm>
            <a:off x="768240" y="1444680"/>
            <a:ext cx="8290080" cy="4975200"/>
          </a:xfrm>
          <a:prstGeom prst="rect">
            <a:avLst/>
          </a:prstGeom>
          <a:ln w="0">
            <a:noFill/>
          </a:ln>
        </p:spPr>
      </p:pic>
      <p:sp>
        <p:nvSpPr>
          <p:cNvPr id="40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6F48-254C-414C-B5AF-D3BA851A942C}" type="slidenum">
              <a:rPr b="1" lang="en-US"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408" name="Footer Placeholder 4"/>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5:11:33Z</dcterms:created>
  <dc:creator>aaboubou</dc:creator>
  <dc:description/>
  <dc:language>en-US</dc:language>
  <cp:lastModifiedBy>argraves</cp:lastModifiedBy>
  <dcterms:modified xsi:type="dcterms:W3CDTF">2011-09-09T13:58:14Z</dcterms:modified>
  <cp:revision>59</cp:revision>
  <dc:subject/>
  <dc:title>HS Assessment Module</dc:title>
</cp:coreProperties>
</file>